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32B1-37E9-46D6-BCD6-A8BE333A7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231D-42CD-4BDD-AE0E-A4F9F550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0260-06AF-42FF-A095-26B9471BD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1EF3-7E21-4233-B1F0-B31131621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356B-1D9A-44A7-9DCE-A381F7EC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7157-1F4E-4054-912F-59A358FF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103E-9104-4848-A3E8-D0BAACFA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4C9E-B95D-46C9-92AC-2B405D89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47D8-3D03-4086-A457-0B0DDF98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CA4A-F60C-4149-8BB4-5C25CA53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A3B1-C868-4C62-A7D8-0D720A64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6112-DDC0-4EB1-92D0-38D0F7FA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BS_PPoint4x3Purple_TLlogo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96AB-8D3F-4653-B109-CD4B25ED4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ing online instructors and assessing their instru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Barb Storan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ALTA Solutions Group, L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Lia Dos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PBS Teacher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LaRay Ma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PBS Teacher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 I and Level I reflection 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BS TL’s course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 I and Level II course re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er rating cover sh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altasolutionsgroup.com/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a Dossin, facilitator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ay Mason, experienced online course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ed in the review process as a course instru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ubtitle 3"/>
          <p:cNvSpPr/>
          <p:nvPr/>
        </p:nvSpPr>
        <p:spPr>
          <a:xfrm>
            <a:off x="1143000" y="1600200"/>
            <a:ext cx="7010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Barb Storan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040"/>
                </a:solidFill>
                <a:latin typeface="Arial"/>
              </a:rPr>
              <a:t>ALTA Solutions Group, L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68"/>
                </a:solidFill>
                <a:latin typeface="Arial"/>
              </a:rPr>
              <a:t>Barb@altasolutionsgroup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Lia Dos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040"/>
                </a:solidFill>
                <a:latin typeface="Arial"/>
              </a:rPr>
              <a:t>PBS Teacher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68"/>
                </a:solidFill>
                <a:latin typeface="Arial"/>
              </a:rPr>
              <a:t>lcdossin@pbs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LaRay Ma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040"/>
                </a:solidFill>
                <a:latin typeface="Arial"/>
              </a:rPr>
              <a:t>PBS Teacher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68"/>
                </a:solidFill>
                <a:latin typeface="Arial"/>
              </a:rPr>
              <a:t>lmason48@comcast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nt poll – What are you hoping to gain from this se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ut PBS Teacher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335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, graduate level courses (scheduled, facilitated, asynchronous)  for PreK–12 tea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ed, certified facilitators lead more than 90 top-quality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-week courses that span the entire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 experts collaborated to develop courses of the highest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PBS_PPoint4x3Purple_TLlog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ilitation Program ~ Recrui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facilitators have Master’s Degree or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 online learning experience either as facilitator or le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mended by local 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pass TL Online Facilitator Training regardless of previous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ilitation Program~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Facilit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100 national facilitators that facilitate one or more course(s) per yea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alf have been teaching online at least 5 yea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16.3% of our facilitators have a CAS/EdS or Ph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51% facilitate course for other online provid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100% have experience as online learn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ilitation Program~ Training and Sup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professional learning community (FU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erly faculty 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acilitator men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er sh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re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courses (OFT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urse Review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tive/summ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-dr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entives – facilitators and lear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ilitator Competen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5341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ven Eff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litators rate TeacherLine’s PD high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ers rate facilitators’ performance high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litators have few unmet learning needs related to online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litators positioned PBS TeacherLine’s PD as demonstrating innovation and best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5:36:49Z</dcterms:created>
  <dc:creator>Christine Kellmurray</dc:creator>
  <dc:description/>
  <dc:language>en-US</dc:language>
  <cp:lastModifiedBy>Barbara Storandt</cp:lastModifiedBy>
  <dcterms:modified xsi:type="dcterms:W3CDTF">2010-11-16T17:47:18Z</dcterms:modified>
  <cp:revision>22</cp:revision>
  <dc:subject/>
  <dc:title>PowerPoint Presentation</dc:title>
</cp:coreProperties>
</file>